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5CF-E641-482A-88B8-6C659B19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CD3-8E4C-41C3-BD0F-B54FDA9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A25-DF7C-4C05-B521-EBF287EC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72D-5D3F-4995-BAAA-C715413B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974D-6F88-4341-A9FD-DD689FEB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1CC-9757-46DD-8E8A-8218B7BC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197-A6E4-49E6-9C5D-8FBF123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DF4-163D-410A-9D32-FA3BCC6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9C8C-F69A-4BDD-85F4-E79F4F5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B30A-1749-42ED-85A5-B02CB9DD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C5F7-6DEA-47E7-98A3-20CA60D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C3D-63CB-48EE-B837-D81F8C8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443-F759-46A2-8F4D-C93B5C2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3251-C77B-4902-9B8A-C1EC6EA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010A-8D39-45DF-8716-0DF57E31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5D5-6E82-47E8-9D76-79A1D93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54C1-0022-4A68-B13A-112C4EBB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809-8581-4E3D-AF80-46A9F1FB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B55-E57E-44D5-9CAD-0E41F7C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C77-8B53-4FF6-9213-BB2ED921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C9B-3B9E-46B3-AE7F-CB2D3CE1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5A3-1552-473B-8FD5-EC69D6C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E07-60E9-49DE-96B7-5364F55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BAB-696C-47E3-B9A5-4997E91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549-9135-4842-9E77-8CB8782142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DC5-520C-4892-BFA3-EB997E8F0D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vc.cervantes.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nslationtown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lish-spanish-translator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ranslationjournal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UPO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43200" y="501336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isa Dazidov, Daniela Baluta, Beatriz Aparicio, David Ló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ata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erican Translation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asociación de traductores más grande de Estados Un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CURSOS Y SEMINARI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ampere.edu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uela de traductores e interpretes donde además se ofrecen cursos a distancia y presenciales de traducción e interpre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GRACIAS POR VUESTRA ATEN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33720" y="2790720"/>
            <a:ext cx="359100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cvc.cervantes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 dividido en cuatro par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ñ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hispa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 (Tecnología y comunic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translationtow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ene glosarios de vocabulario especializado, información de escuelas de idiomas y traducción, información de asociaciones de traductores, diccionarios onlin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FORO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english-spanish-translato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foro divido en áreas de medicina, traducción jurídica, traducción de marketing, traducción técnic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REVISTAS Y BOLETINES DE NOTICI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www.translationjournal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artículos organizados por meses de aportación de arch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REVISTAS Y BOLETINES DE NOTICI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ranslationtown.com/tt/datos/newsletter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encontrar multitud de artículos y noticias de actu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peti.org.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ón española profesional de traductores e interpr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fit-if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tional Federation of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voz de todas las asociaciones de tradu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c0039"/>
                </a:solidFill>
                <a:uFillTx/>
                <a:latin typeface="Arial"/>
              </a:rPr>
              <a:t>ASOCIACION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eatl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ene información actualizada sobre los congresos, citas y noticias relacionadas con el mundo de la tra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45:11Z</dcterms:created>
  <dc:creator>noborrar</dc:creator>
  <dc:description/>
  <dc:language>en-US</dc:language>
  <cp:lastModifiedBy>noborrar</cp:lastModifiedBy>
  <dcterms:modified xsi:type="dcterms:W3CDTF">2011-09-28T17:03:10Z</dcterms:modified>
  <cp:revision>2</cp:revision>
  <dc:subject/>
  <dc:title>GRUPO 7</dc:title>
</cp:coreProperties>
</file>